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FD3-5CBB-4E40-A46C-91CE80DF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09D-F1F3-4997-BA9B-3BAE945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44B-B0CE-4560-944D-625CAD32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FBC-CDE6-4A6D-A1ED-56253685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B13-1B91-4488-B2B0-0D990F7E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45F-C136-4B38-876B-3711FD81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49A-AA2D-4715-894E-55833AC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068-7FEB-4F88-8B5E-25AB0214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130-C25D-4D0D-BF93-EB464923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00C-B55E-4EC5-AB04-4F3A88C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B78-A390-4E6B-8E28-C22618D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D72-1CE2-47A7-9418-9A7D7D6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4FB5-FEC2-42F8-BAD9-7CB4F0DDD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23752" t="21000" r="20625" b="15000"/>
          <a:stretch/>
        </p:blipFill>
        <p:spPr>
          <a:xfrm>
            <a:off x="457200" y="380880"/>
            <a:ext cx="8265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23126" t="22001" r="22503" b="10001"/>
          <a:stretch/>
        </p:blipFill>
        <p:spPr>
          <a:xfrm>
            <a:off x="685800" y="304920"/>
            <a:ext cx="7620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3:51:58Z</dcterms:created>
  <dc:creator>sf</dc:creator>
  <dc:description/>
  <dc:language>en-US</dc:language>
  <cp:lastModifiedBy>sf</cp:lastModifiedBy>
  <dcterms:modified xsi:type="dcterms:W3CDTF">2011-01-05T14:01:47Z</dcterms:modified>
  <cp:revision>1</cp:revision>
  <dc:subject/>
  <dc:title>Slide 1</dc:title>
</cp:coreProperties>
</file>